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EAD-69A9-426D-88A2-EEB7C19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E86-0DAC-40C1-A90A-F5E48ED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8AD-244A-4043-9349-636D7AF3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68E-6268-460D-92F8-5EC139DC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4F2-F453-4E74-B42B-253D6BB4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5B1-9E68-4C78-8C3B-641F5F54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7DA-F835-4AC0-8AFB-5C2EDEB7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3B61-D9F0-4CFB-82AD-F6F7FE03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41E-6479-4EE1-AFDA-94B9F50F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1BD-9E8B-4725-A96A-D80F0A1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ACA-6A95-411B-86EF-2DB4171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B4E-D566-485A-BCA0-52D74DF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4D13-1514-47C4-8C77-EB10104D7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68360" y="18900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0a3</cp:lastModifiedBy>
  <dcterms:modified xsi:type="dcterms:W3CDTF">2012-06-19T11:00:10Z</dcterms:modified>
  <cp:revision>30</cp:revision>
  <dc:subject/>
  <dc:title>SALARIUL</dc:title>
</cp:coreProperties>
</file>